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6E5-F643-47C3-9D3D-7B33362A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6D2-D45A-442B-9264-CA86EE1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9C3-D5C9-467A-BFD8-8B71F66D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5FA-BB48-4BFF-91C0-8F92B7F1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55C-FDC7-4C1B-A6E1-54F1F66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477-67F2-4F31-A452-218EEAC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CD3-A8EB-455A-9FA1-946FC5B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0E2-CD70-469D-B5F5-626DAB0F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F06-BA5C-4B49-85E8-B19DB26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CB9-E97A-414A-8F0C-545590A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134-D281-4E9C-8486-FC321386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36F-854B-4FA2-ABF0-0AE81DF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68F5-7D26-4D53-BAB5-1F62D257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80880"/>
            <a:ext cx="7620120" cy="17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hildren in 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3809880" cy="376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6400" y="3657600"/>
            <a:ext cx="2611440" cy="29718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Palatino"/>
              </a:rPr>
              <a:t>Thomas Gainsborough’s </a:t>
            </a:r>
            <a:r>
              <a:rPr b="0" i="1" lang="en-US" sz="3600" spc="-1" strike="noStrike">
                <a:solidFill>
                  <a:srgbClr val="000066"/>
                </a:solidFill>
                <a:latin typeface="Palatino"/>
              </a:rPr>
              <a:t>Blue B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571920" cy="541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19051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ould you lik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dress like </a:t>
            </a:r>
            <a:r>
              <a:rPr b="0" i="1" lang="en-US" sz="2400" spc="-1" strike="noStrike">
                <a:solidFill>
                  <a:srgbClr val="000066"/>
                </a:solidFill>
                <a:latin typeface="Courier New"/>
              </a:rPr>
              <a:t>Blue Bo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76720"/>
            <a:ext cx="351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urier New"/>
              </a:rPr>
              <a:t>Do you think this painting is old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urier New"/>
              </a:rPr>
              <a:t>or ne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533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Nadianne"/>
              </a:rPr>
              <a:t>Norman Rockwell painted k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49568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5000" y="172080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s the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appy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 s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hicago"/>
              </a:rPr>
              <a:t>This is another Norman Rockwell pai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419724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7440" y="14605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at i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tist s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 us in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nt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Mary Cassatt painted women and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191120" cy="515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9240" y="2344680"/>
            <a:ext cx="310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urier New"/>
              </a:rPr>
              <a:t>Who do you 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urier New"/>
              </a:rPr>
              <a:t>this girl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urier New"/>
              </a:rPr>
              <a:t>How old d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urier New"/>
              </a:rPr>
              <a:t>think she m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urier New"/>
              </a:rPr>
              <a:t>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43000" y="1447920"/>
            <a:ext cx="64771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t into art too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urier New"/>
              </a:rPr>
              <a:t>Put yourself into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urier New"/>
              </a:rPr>
              <a:t>Painting or dra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8T13:10:31Z</dcterms:created>
  <dc:creator>Annette Loy</dc:creator>
  <dc:description/>
  <dc:language>en-US</dc:language>
  <cp:lastModifiedBy>Annette Loy</cp:lastModifiedBy>
  <dcterms:modified xsi:type="dcterms:W3CDTF">1999-01-31T00:19:41Z</dcterms:modified>
  <cp:revision>21</cp:revision>
  <dc:subject/>
  <dc:title>No Slide Title</dc:title>
</cp:coreProperties>
</file>